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8B76-C705-4B08-9983-EBB3F2BE77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0729-3DFC-4725-9C6E-E0358FD660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4FB6-FD36-4901-9BAF-37CFC62FDD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26C0-5EA4-44AE-9068-AF7FC88E27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5DA5-3586-422B-AFFB-D8BF5A6C0C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DADA-09AC-4979-B083-6B806D2195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BF0-E656-4E9D-917C-73CD06EF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DA1-F0E5-4274-A8B0-A6DD3D8F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A05-54F6-4FF4-B9F0-B35AE5E3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76E-A24A-4E4B-93F9-B611DBF5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6D5-5F94-4B03-9B36-9261218D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E4D-1B92-4EC0-9041-0BCF63A4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77A-07FB-47FE-BE6D-9236F4C1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11A-AF0F-4CF0-91EC-D5B41AFE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13C-8CD7-4CC6-B09E-24E64135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66A-096B-44B6-9C18-A8E50CD6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672-4626-43B1-8294-F1C57FB8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ADD-6132-4AC7-A5AB-95B377B1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192E-FDEF-4469-97A9-098E9DA1A80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FIRMA PRZYJAZNA RODZINIE – JAK POGODZIĆ ŻYCIE ZAWODOWE Z RODZINN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Monika Bą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Stowarzyszenie Doradców Europejskich PLin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Kraków, 17 listopada 2009r</a:t>
            </a:r>
            <a:r>
              <a:rPr b="0" lang="pl-PL" sz="24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Cele projektu i ich realizac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em projektu było wypracowanie nowatorskich, modelowych rozwiązań, które umożliwią skuteczny powrót na rynek pracy rodzicom, głównie kobietom, po okresie przerwy związanej z urodzeniem i opieką nad dzieckiem oraz ich aktywizację w trakcie przebywania na urlopie wychowawczym i macierzyńsk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ten był realizowany poprzez różne formy aktywności oferowane rodzicom, ale także pracodawcom. Działanie te objęły: indywidualne doradztwo psychologiczne, prawne i zawodowe, szkolenia, seminaria tematyczne oraz innowacyjne rozwiązania w zakresie opieki nad dziec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brane rezultaty projek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71468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nk Godzin – Wzajem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lub Przyjazny Rodz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ortal internetowy www.pracujacyrodzice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Raport nt zasad zatrudniania osób posiadających dzie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onkurs na markę Firmy Przyjaznej Rodzi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IRMA PRZYJAZNA RODZICO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nkurs na dobrą markę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Celem nadrzędnym Konkursu na Markę Firmy Przyjaznej Rodzicom było znalezienie, wsparcie i wypromowanie przedsiębiorstw wrażliwych społecznie, które aktywnie poszukują i wdrażają satysfakcjonujące, efektywne i zgodne z prawem rozwiązania w zakresie godzenia pracy zawodowej z życiem rodzinnym, oraz gotowe są podzielić się wypracowanymi rezultatam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IRMA PRZYJAZNA RODZICOM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nkurs na dobrą markę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rzedmiotem  oceny było stosowanie zgodnych z prawem i ogólnie akceptowanych standardów pracy sprzyjających równowadze między życiem zawodowym i rodzinnym, jak np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ktywne poszukiwanie rozwiązań organizacyjnych w firmie sprzyjających godzeniu ról (rozwój, kształcenie personelu, zespoły zadaniowe, testowanie rozwiązań, otwartość na propozycje pracownikó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tosowanie elastycznych form zatrudnienia (praca w niepełnym wymiarze godzin, możliwość pracy w domu, telepraca, stopniowe wydłużanie czasu pracy matek powracających z urlopów macierzyńskich it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romowanie równego podziału obowiązków rodzicielskich poprzez zachęcanie  ojców do korzystania z przysługujących im urlopów (informowanie, premiowani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rzedmiot  oceny ... c.d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spieranie funkcji rodzicielskich pracowników (opieka medyczna do-/finansowana przez firmę, dodatkowe ubezpieczenie czy urlopy, rodzinne spotkania integracyjne, dodatkowe gwarancje powrotu na stanowisko po przerwie związanej z urodzeniem / wychowaniem dziecka, zapewnienie zastępstwa na stanowisk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zapobieganie utracie komunikacji i kwalifikacji zawodowych pracowników podczas urlopów macierzyńskich i wychowawczych (wydelegowanie pracownika / zastępcy do kontaktów, udostępnienie pracownikowi służbowych narzędzi komunikacji, np. telefon, mail, laptop, dostęp do sieci firmowej, samochód, itp., dostęp do szkoleń w trakcie urlopu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unikanie praktyk dyskryminacyjnych (zasady rekrutacji; rozwój wiedzy, szkolenia, informowanie, nie pomijanie w awansie potencjalnych lub młodych rodziców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in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ównowaga  -Praca - Rodz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120" y="1285560"/>
            <a:ext cx="8329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 terenie województwa małopolskiego liderem regionalnym było Stowarzyszenie Doradców Europejskich PLinEU, które za cel postawiło sobie zawiązanie współpracy pomiędzy podmiotami działającymi na terenie powiatu krakowskiego oraz miasta Krakowa: instytucjami rynku pracy, instytucjami pomocy społecznej, organizacjami pozarządowymi oraz podmiotami reprezentującymi pracodawc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amach utworzonego partnerstwa lokalnego tworzony był model aktywizacji zawodowej kobiet i mężczyzn, którzy wskutek sprawowania osobistej opieki nad osobą zależną znajdują się w gorszym położeniu pod względem sytuacji zaw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tym celu wspólnie wypracowane zostały rozwiązania w postaci kompleksowych usług doradczo-szkoleniowych, uwzględniających potrzeby oraz oczekiwania osób napotykających na trudności w godzeniu sfery zawodowej i rodzin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424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pl-PL" sz="6000" spc="-1" strike="noStrike">
                <a:solidFill>
                  <a:srgbClr val="000066"/>
                </a:solidFill>
                <a:latin typeface="Arial"/>
              </a:rPr>
              <a:t>PROJEKTY W TRAKCIE REALIZACJI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NTRUM AKTYWIZACJI RODZIC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14272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</a:rPr>
              <a:t>C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Wzmocnienie aktywności zawodowej Rodziców, którzy w związku ze sprawowaniem opieki nad dzieckiem/dziećmi są zagrożeni wykluczeniem społecznym z takich względów j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utrata p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trudności w podjęciu zatrudni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trudności w godzeniu życia zawodowego z rodzin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NTRUM AKTYWIZACJI RODZIC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ymbol zastępczy zawartości 2" descr=""/>
          <p:cNvPicPr/>
          <p:nvPr/>
        </p:nvPicPr>
        <p:blipFill>
          <a:blip r:embed="rId1"/>
          <a:stretch/>
        </p:blipFill>
        <p:spPr>
          <a:xfrm>
            <a:off x="291960" y="1968480"/>
            <a:ext cx="8407440" cy="3767040"/>
          </a:xfrm>
          <a:prstGeom prst="rect">
            <a:avLst/>
          </a:prstGeom>
          <a:ln w="0">
            <a:noFill/>
          </a:ln>
        </p:spPr>
      </p:pic>
      <p:sp>
        <p:nvSpPr>
          <p:cNvPr id="77" name="Prostokąt 3"/>
          <p:cNvSpPr/>
          <p:nvPr/>
        </p:nvSpPr>
        <p:spPr>
          <a:xfrm>
            <a:off x="2286000" y="17208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NTRUM AKTYWIZACJI RODZIC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9680" y="1428480"/>
            <a:ext cx="790092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</a:rPr>
              <a:t>KORZYSCI Z UDZIAŁU W PROJEKC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pomoc w podniesieniu kompetencji zawodowych oraz przygotowaniu do powrotu do prac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-    nauka w przyjaznej atmosferze obsługi komputera, w tym najbardziej przydatnych programów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wzmocnienie pozycji na rynku pracy oraz poznanie swoich mocnych str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skuteczniejsze i bardziej asertywne komunikowanie się z otoczeniem zarówno w pracy, jak i w d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wzmocnienie poczucia własnej sprawczości oraz     skuteczności w osiąganiu celów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poznanie innych Rodziców w podobnej sytu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pl-PL" sz="4000" spc="-1" strike="noStrike">
                <a:solidFill>
                  <a:srgbClr val="000066"/>
                </a:solidFill>
                <a:latin typeface="Imprint MT Shadow"/>
              </a:rPr>
              <a:t>STOWARZYSZENIE </a:t>
            </a:r>
            <a:br>
              <a:rPr sz="4000"/>
            </a:br>
            <a:r>
              <a:rPr b="1" i="1" lang="pl-PL" sz="4000" spc="-1" strike="noStrike">
                <a:solidFill>
                  <a:srgbClr val="000066"/>
                </a:solidFill>
                <a:latin typeface="Imprint MT Shadow"/>
              </a:rPr>
              <a:t>DORADCÓW EUROPEJSKICH </a:t>
            </a:r>
            <a:br>
              <a:rPr sz="4000"/>
            </a:br>
            <a:r>
              <a:rPr b="1" i="1" lang="pl-PL" sz="6000" spc="-1" strike="noStrike">
                <a:solidFill>
                  <a:srgbClr val="000066"/>
                </a:solidFill>
                <a:latin typeface="Imprint MT Shadow"/>
              </a:rPr>
              <a:t>PLinEU</a:t>
            </a:r>
            <a:br>
              <a:rPr sz="6000"/>
            </a:br>
            <a:br>
              <a:rPr sz="6000"/>
            </a:br>
            <a:r>
              <a:rPr b="1" i="1" lang="pl-PL" sz="4000" spc="-1" strike="noStrike">
                <a:solidFill>
                  <a:srgbClr val="333399"/>
                </a:solidFill>
                <a:latin typeface="Arial"/>
              </a:rPr>
              <a:t>http://www.plineu.org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Nowy projekt, w ramach Priorytetu VII Programu Operacyjnego Kapitał Ludzki: Promocja integracji społe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Działanie 7.2.1 Aktywizacja zawodowa i społeczna osób zagrożonych wykluczeniem społeczn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Będzie realizowany od 01.01.2010r. do 31.12.2011r. w Małopol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Celem głównym projektu jest wzmocnienie aktywności zawodowej oraz społecznej 90 mieszkańców Małopolski, w tym 9 mężczyzn - pozostających bez zatrudnienia, którzy po urodzeniu i okresie opieki nad dzieckiem są szczególnie zagrożeni wykluczeniem społeczny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Z analizy potrzeb form wparcia jakiego oczekują rodzice wynika, że zainteresowani są przede wszystkim zdobyciem konkretnych kompetencji i umiejętności, dzięki którym podejmą zatrudnienie pozwalające łączyć życie zawodowe z rodzinnym. Wśród czynników wymienianych jako ułatwiające godzenie obu sfer życia są możliwości stosowania elastycznych form zatrudnienia, opieka nad dzieckiem oraz dobre zarobki. Oba zawody pozwalają na pracę dobrze płatną, w systemie zadaniowym, stosując elastyczne formy zatrudnienia, istnieje również możliwość pracy na własny rachunek, czym szczególnie zainteresowani są rodz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2060"/>
                </a:solidFill>
                <a:uFillTx/>
                <a:latin typeface="Arial"/>
              </a:rPr>
              <a:t>Cele szczegółowe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1.Wzrost motywacji i umiejętności aktywnego poszukiwania pracy wśród 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2.Podniesienie umiejętności i nabycie kompetencji zawodowych uniwersalnych na rynku pracy wśród BO związanych z pracą w oparciu o zarządzanie projek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i pracą przedstawiciela handl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3.Wzmocnienie/nabycie świadomości BO o zasobach wspierających aktywność społeczną i zawodową oraz sposobach przełamywania wykluczania społecz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DZIAŁA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poradnictwo indywidualne - doradztwo zawodowe, prawne i psychologiczne, kursy komputerowe oraz kursy umożliwiające nabycie konkretnych kompetencji zawodowych (z zakresu zarządzania projektami oraz zawodu przedstawiciela handloweg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eneficjenci obu ścieżek - MP i PH odbędą praktyki obejmujące przygotowanie do danego zawodu (firmy, instytucje i NGOs, praktyki z zakresu MP i PH). Za dobór instytucji, opiekę nad praktykantami oraz program praktyk odpowiadać będzie Specjalista ds. reintegracji zawod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Okres trwania praktyki zawodowej uzależniony będzie od złożoności umiejętności praktycznych w danej instytucji, jednak nie krótszy niż 10 dni, przyjmuje się, że średnio na 1 BO przypadanie miesiąc praktyki. Po zakończeniu praktyki uczestnicy otrzymają zaświadczenie o odbyciu praktyki zawierające opinię praco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Arial"/>
              </a:rPr>
              <a:t>Kon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owarzyszenie Doradców Europejskich "PLinEU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iuro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l. Kasprowicza 9a/3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1-523 Krak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l./fax (+48-12) 411 05 24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iedzib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. Szkolne 2/49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1-975 Kraków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lineu@plineu.org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ona: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ww.plineu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Tahoma"/>
              </a:rPr>
              <a:t>Dziękuję za uwagę </a:t>
            </a:r>
            <a:r>
              <a:rPr b="1" lang="pl-PL" sz="32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1" lang="pl-PL" sz="32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Tahoma"/>
              </a:rPr>
              <a:t>Monika Bą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99"/>
                </a:solidFill>
                <a:latin typeface="Tahoma"/>
              </a:rPr>
              <a:t>monika.bak@plineu.o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rostokąt 3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0066"/>
                </a:solidFill>
                <a:latin typeface="Arial"/>
              </a:rPr>
              <a:t>Misja i c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Arial"/>
                <a:ea typeface="Arial"/>
              </a:rPr>
              <a:t>Misją Stowarzyszenia jes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zmocnienie potencjału trzeciego sektora poprze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opagowanie idei społeczeństwa obywatelskiego (pomoc dla organizacji pozarządowych, w tym dla małych organizacji i grup nieformalnych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spieranie przygotowania społeczności lokalnych do funkcjonowania w Unii Europejsk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odniesienie aktywności kobiet poprze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- wspieranie inicjatyw zwiększających udział kobiet w życiu politycznym, publicznym i społeczn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</a:rPr>
              <a:t>AKTYWNOŚĆ NA RYNKU PRACY – DLACZEGO WARTO CAŁY CZAS PODNOSIĆ SWOJE KWALIFIKACJ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Kształcenie ustawiczne czyli uczenie się przez cał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życie jako współczesny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Inwestycja w swój rozwój to inwestycja na lata – a dokształcanie się najlepszą strategią, nie tylko podczas kryzy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Postawa proaktyw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Ucząc się ćwiczymy umysł i pamięć oraz poszerzamy swoje możliwości wykorzystując swój potencjał</a:t>
            </a:r>
            <a:r>
              <a:rPr b="1" lang="pl-PL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NOWE MOZLIWOŚCI EDUKACYJNE I SZKOLENIOW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PROJEKTY WSPÓŁFINANSOWANE PRZEZ UNIĘ EUROPEJSK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Kto może skorzysta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Jakiego rodzaju wsparcie można otrzyma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Szkolenia bezpłatne a szkolenia dofinansow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Gdzie szukać informacji o realizowanych projekt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ŹRÓDŁA INFORMACJI O SZKOLENI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-  strony internetowe, m.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malopolska.do-celu.eu (wyszukiwarka szkole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inwestycjawkadry.info.pl (wyszukiwar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funduszeeuropejskie.gov.p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studiapodyplomowe.eu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zdz.krakow.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marr.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pracujacyrodzice.pl  (aktualnoś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ww.centrumrodzicow.org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(aktualnoś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3"/>
          <p:cNvSpPr/>
          <p:nvPr/>
        </p:nvSpPr>
        <p:spPr>
          <a:xfrm>
            <a:off x="1357200" y="2143080"/>
            <a:ext cx="642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ŹRÓDŁA INFORMACJI O SZKOLENIACH c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urzędy pracy (Wojewódzki Urząd Pracy i działaj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przy nim Centrum Informacji i Planowania Kari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Zawodowej, Powiatowy Urząd Pracy, Grodzki Urzą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Prac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instytucje pomocy społecznej (Klub Integrac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Społecznej, Centrum Integracji Społeczne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organizacje pozarządowe: www.ngo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-  media: prasa, radio, tv regionalna, plak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pl-PL" sz="6000" spc="-1" strike="noStrike">
                <a:solidFill>
                  <a:srgbClr val="000066"/>
                </a:solidFill>
                <a:latin typeface="Arial"/>
              </a:rPr>
              <a:t>ZREALIZOWANE</a:t>
            </a:r>
            <a:br>
              <a:rPr sz="6000"/>
            </a:br>
            <a:r>
              <a:rPr b="1" lang="pl-PL" sz="6000" spc="-1" strike="noStrike">
                <a:solidFill>
                  <a:srgbClr val="000066"/>
                </a:solidFill>
                <a:latin typeface="Arial"/>
              </a:rPr>
              <a:t>PROJEK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821556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jekt był skierowany do: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- rodziców, głównie kobiet;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- przedsiębiorców; 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inansowanie ze środków Europejskiego Funduszu Społecznego w ramach IW EQU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14680" y="0"/>
            <a:ext cx="53575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„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MPROMIS NA RYNKU PRACY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- innowacyjny model aktywizacji zawodowej kobi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07:45:25Z</dcterms:created>
  <dc:creator>AR</dc:creator>
  <dc:description/>
  <dc:language>en-US</dc:language>
  <cp:lastModifiedBy>Bak</cp:lastModifiedBy>
  <dcterms:modified xsi:type="dcterms:W3CDTF">2009-11-17T14:50:34Z</dcterms:modified>
  <cp:revision>291</cp:revision>
  <dc:subject/>
  <dc:title>PROGRAM OPERACYJNY KAPITAŁ LUDZKI</dc:title>
</cp:coreProperties>
</file>