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828F-4E70-4BF2-B25D-3605B1535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1A94-7541-43E7-AB9B-3B2E90AC7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A464-4A99-4F3F-A04B-CEAC5613F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5306-EF41-442F-8017-CD7F1A1BB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9CA5-D5CC-4F5A-B02B-CD57124BE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6E0D-1615-4B31-9062-901DB7AA5B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5DE-CF61-4B9B-96F8-1EA779318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7283-873C-414A-B42D-2D90E6E1B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17EC-85EB-402F-9CEA-CD255D7D2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0DC8-B5B4-4EFF-8525-2A03F2527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2AD2-8E29-4F66-AB65-C28161938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00F6-91E6-4E00-A878-1CD130199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" name="Picture 11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t.krakow.pl/" TargetMode="External"/><Relationship Id="rId3" Type="http://schemas.openxmlformats.org/officeDocument/2006/relationships/hyperlink" Target="http://www.domalopolski.pl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rewniana.malopolska.pl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stopki 4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0FBA-FD84-48DB-B5A2-03D320315EF4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98400" y="107928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Działania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Małopolskiej Organizacji Turystycznej 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w roku 2009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B97-B555-4F4F-8C87-2A7D8347DBC8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Symbol zastępczy stopki 7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Symbol zastępczy daty 8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370-2DF5-43B3-87D7-52702D829B5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41672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292929"/>
                </a:solidFill>
                <a:latin typeface="Garamond"/>
              </a:rPr>
              <a:t>Szkolenia, warsztaty, konferencje </a:t>
            </a:r>
            <a:endParaRPr b="1" lang="en-US" sz="36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562040"/>
          <a:ext cx="7632720" cy="4348080"/>
        </p:xfrm>
        <a:graphic>
          <a:graphicData uri="http://schemas.openxmlformats.org/drawingml/2006/table">
            <a:tbl>
              <a:tblPr/>
              <a:tblGrid>
                <a:gridCol w="600120"/>
                <a:gridCol w="1295280"/>
                <a:gridCol w="3228840"/>
                <a:gridCol w="25084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ZEDSIĘWZIĘC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 lu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Współpraca w zakresie rozwoju i promocji polskiej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-7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zedaż oferty turystycznej przez Interne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llegro.pl, Allewakacje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eminarium: Kultura, muzyka i dziedzictwo region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łopolski Ośrodek Doradztwa Rolniczego w Karniowicach, Wschodnia Flandr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5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-23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Turystyka w Polsce w okresie kryzysu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lskie Stowarzyszenie Turystyki, 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Stacji Narciarski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ojewództwo Małopolskie, stacje narciarskie, samorządy lok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Lokalnych Organizacji Turystyczny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, LOT-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F49-B4D0-45A8-B220-44575DCB2661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CA2-28A8-4760-A5FE-7275052337CA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8040" y="545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Konkursy i plebiscyty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422360"/>
          <a:ext cx="7861320" cy="4592520"/>
        </p:xfrm>
        <a:graphic>
          <a:graphicData uri="http://schemas.openxmlformats.org/drawingml/2006/table">
            <a:tbl>
              <a:tblPr/>
              <a:tblGrid>
                <a:gridCol w="415800"/>
                <a:gridCol w="1838520"/>
                <a:gridCol w="2846160"/>
                <a:gridCol w="276084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yczeń – marzec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jlepsza stacja narciarska Małopolski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P 3 Kraków, Radio Kraków Małopolska,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czer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e Europejskie Destynacje – EDE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isja Europejska,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y produkt turystyczny – CERTYFIKAT Polskiej Organizacji Turystycz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584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miątka z 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erwiec – wrzesień 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lkie Odkrywanie Małopols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 Kraków, Radio Kraków Małopolska, Polska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Odys 20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akowska Izba Turystyki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wrzesie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fotograficzny „Szlak Architektury Drewnianej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6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FDE-FE1D-437D-8C2A-8CAEA652EF82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F4C-4E93-4D23-9276-51B594C7DA96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62208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Public Relations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676520"/>
          <a:ext cx="7975440" cy="4194000"/>
        </p:xfrm>
        <a:graphic>
          <a:graphicData uri="http://schemas.openxmlformats.org/drawingml/2006/table">
            <a:tbl>
              <a:tblPr/>
              <a:tblGrid>
                <a:gridCol w="511200"/>
                <a:gridCol w="1482840"/>
                <a:gridCol w="3987720"/>
                <a:gridCol w="199368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zebudowa serwisów internetowych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www.mot.krakow.pl</a:t>
                      </a: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 i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www.domalopolski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złonkowie MOT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143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spółpraca z mediam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lska Gazeta Krakowska, Dziennik Polski, TVP 3 Kraków, Radio Kraków Małopolska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formacja o Małopolskiej Organizacji Turystycznej; kształtowanie wizerunku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dział przedstawicieli Małopolskiej Organizacji Turystycznej w gremiach opiniotwórczych z zakresie turysty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Obejmowanie Patronatem MOT imprez, oraz różnego rodzaju inicjatywy związanych z turystyką w Małopolsc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spółpraca z Aktualnościami Turystycznymi, portalami turystycznymi i prasą branżow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6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A73-1781-4F9F-A181-F0B17ABE012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452-A334-4972-B617-BF82A2C779C5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2349000"/>
            <a:ext cx="72705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Dziękuję za uwagę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7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3E7-7330-4EA2-87EE-1CD48FF2ED74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470-651B-4643-B53A-57BA5E65CA2E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558720"/>
            <a:ext cx="820440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twarty Szlak Architektury Drewnianej –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danie powierzone przez Województwo Małopolskie.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kres realizacji kwiecień – grudzień 2009 r.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5040" y="2158920"/>
            <a:ext cx="81280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dostępnienie do zwiedzania 50 obiektów sakral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akcji promującej Otwarty Szlak Architektury Drewnian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zupełnienie oznakowania drogowego szlaku (80 znaków drogowych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Konserwacja dużych drewnianych tablic informacyjnych o SAD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Wykonanie ulotek i mapy (łączny nakład 90 000 egz.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Rozbudowa serwisu internetowego </a:t>
            </a:r>
            <a:r>
              <a:rPr b="0" lang="pl-PL" sz="1900" spc="-1" strike="noStrike" u="sng">
                <a:solidFill>
                  <a:srgbClr val="999933"/>
                </a:solidFill>
                <a:uFillTx/>
                <a:latin typeface="Garamond"/>
                <a:hlinkClick r:id="rId2"/>
              </a:rPr>
              <a:t>www.drewniana.malopolska.pl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cyklu koncertów „Muzyka Zaklęta w Drewnie” (12 koncertów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konkursu fotograficznego i wystawy pokonkursow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2 wizyt studyj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seminarium 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4" name="Symbol zastępczy daty 1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4C5-C5D7-4FBE-A1B7-4EC838712CE8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E803-3F34-43C9-A95C-55E367E818EF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graniczne targi turystyczne – współpraca z  samorządami terytorialnymi branżą turystyczną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7912080" cy="4192560"/>
        </p:xfrm>
        <a:graphic>
          <a:graphicData uri="http://schemas.openxmlformats.org/drawingml/2006/table">
            <a:tbl>
              <a:tblPr/>
              <a:tblGrid>
                <a:gridCol w="900000"/>
                <a:gridCol w="1703520"/>
                <a:gridCol w="2870280"/>
                <a:gridCol w="2438280"/>
              </a:tblGrid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-11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ISELIV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slo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ERIEN MESS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edeń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TK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lsinki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OSPFES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58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01-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TUR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dry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-9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ON DE VACANCES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uksel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-15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rl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-21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T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skw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diola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yż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-28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-19.04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C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-8.10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RAIN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ijów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-12.1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T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ndy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2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D4A-BD08-4D52-99D4-5B0C43AF231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CB0-8A27-4204-B08E-33395637449D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015920"/>
            <a:ext cx="727092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Krajowe targi turystyczne </a:t>
            </a: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– współpraca z  samorządami terytorialnymi i branżą turystyczną</a:t>
            </a: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133720"/>
          <a:ext cx="7925040" cy="2225520"/>
        </p:xfrm>
        <a:graphic>
          <a:graphicData uri="http://schemas.openxmlformats.org/drawingml/2006/table">
            <a:tbl>
              <a:tblPr/>
              <a:tblGrid>
                <a:gridCol w="863640"/>
                <a:gridCol w="1981440"/>
                <a:gridCol w="3098520"/>
                <a:gridCol w="198144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2.0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ourex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sno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-5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owski Salon Turystycz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t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T Warsa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-24.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ur Sal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zna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D5EB-6925-48D4-B8EA-6A71CCAAAB74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FD6-6356-41AF-9AC1-64253148BF6A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Wydawnictwa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35040" y="1905120"/>
          <a:ext cx="7924680" cy="2984400"/>
        </p:xfrm>
        <a:graphic>
          <a:graphicData uri="http://schemas.openxmlformats.org/drawingml/2006/table">
            <a:tbl>
              <a:tblPr/>
              <a:tblGrid>
                <a:gridCol w="774720"/>
                <a:gridCol w="1384200"/>
                <a:gridCol w="2768760"/>
                <a:gridCol w="2997000"/>
              </a:tblGrid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1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a aktywnie i na sportow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pa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lotki 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5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Zamki i twierdze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0BF-676A-4FB5-950B-88105FB72F2B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5AB-A34F-4315-9973-03120A51C5A5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Badania ruchu turystycznego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146320"/>
          <a:ext cx="7925040" cy="2055960"/>
        </p:xfrm>
        <a:graphic>
          <a:graphicData uri="http://schemas.openxmlformats.org/drawingml/2006/table">
            <a:tbl>
              <a:tblPr/>
              <a:tblGrid>
                <a:gridCol w="609840"/>
                <a:gridCol w="1638000"/>
                <a:gridCol w="3695760"/>
                <a:gridCol w="1981440"/>
              </a:tblGrid>
              <a:tr h="644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66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Województwie Małopolski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Krak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4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2BD-BB55-460E-ABA2-766EC5974371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F16-1BD6-41AB-8D3B-F794AFC854C5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Nowe Produkty Turystycz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98400" y="2082960"/>
          <a:ext cx="7925040" cy="1066680"/>
        </p:xfrm>
        <a:graphic>
          <a:graphicData uri="http://schemas.openxmlformats.org/drawingml/2006/table">
            <a:tbl>
              <a:tblPr/>
              <a:tblGrid>
                <a:gridCol w="723960"/>
                <a:gridCol w="1650960"/>
                <a:gridCol w="3568680"/>
                <a:gridCol w="1981440"/>
              </a:tblGrid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9D5-6D7C-4BB7-A8A4-D04EC54C9764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E3AB-A7E3-4BC0-B4B1-D5A590C751CA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Study press/study tours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19240"/>
          <a:ext cx="7924680" cy="2997360"/>
        </p:xfrm>
        <a:graphic>
          <a:graphicData uri="http://schemas.openxmlformats.org/drawingml/2006/table">
            <a:tbl>
              <a:tblPr/>
              <a:tblGrid>
                <a:gridCol w="469800"/>
                <a:gridCol w="1282680"/>
                <a:gridCol w="3581640"/>
                <a:gridCol w="2590560"/>
              </a:tblGrid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PRZEDSIĘWZIĘC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98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zagranicznych dziennikarzy i touroperatorów rekomendowanych przez Polską Organizację Turystyczną oraz Ośrodki Zagraniczne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Miasto Kraków, samorządy, branża turystyczn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krajowych dziennikarzy p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19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dziennikarzy i touroperatorów Szlakiem „tarnowskich niezwykłości” po subregionie tarnowskim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Tarnowskie Centrum Informacj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D86-0CFF-4611-B13D-9E390080907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10F-20B2-45CF-99A4-6DC01D078D4B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270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Imprezy i akcje promocyj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676520"/>
          <a:ext cx="7924680" cy="4216320"/>
        </p:xfrm>
        <a:graphic>
          <a:graphicData uri="http://schemas.openxmlformats.org/drawingml/2006/table">
            <a:tbl>
              <a:tblPr/>
              <a:tblGrid>
                <a:gridCol w="990720"/>
                <a:gridCol w="1333440"/>
                <a:gridCol w="3619440"/>
                <a:gridCol w="19810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3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ezentacja Krakowa i Małopolski w Bratysła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6 maj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Dzień Europy w Kij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Tarnów, POIT Kij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0 – 12 lip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Future Stars 2009 (Londyn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-13, 19-20 wrześ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Europejskie Dni Dziedzictwa Kulturoweg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 – 8 październik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Jarmark Zima w Małopolsce (Kijów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ie Obchody Światowego Dni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 grud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auguracja sezonu narciarskiego w Małopols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920-56AC-4781-A255-C7C2351B5548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1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4433-FD5A-42C9-9033-9C01D314FC0A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52:35Z</dcterms:created>
  <dc:creator>mirek mot</dc:creator>
  <dc:description/>
  <dc:language>en-US</dc:language>
  <cp:lastModifiedBy>mot</cp:lastModifiedBy>
  <dcterms:modified xsi:type="dcterms:W3CDTF">2009-06-25T09:50:59Z</dcterms:modified>
  <cp:revision>200</cp:revision>
  <dc:subject/>
  <dc:title>Parent Bill of R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1251033</vt:lpwstr>
  </property>
</Properties>
</file>